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9C2D-FFCD-49E3-907B-AB41EC11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FA994-2D78-4149-A632-0D1AE796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6F08-E48C-4288-839E-60FA9D22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93E76-50C0-46E8-B8B1-064CD92C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7FB5-95DD-467D-B914-95EE4E17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0DCE-9BD1-4026-A93D-FA9A7E99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5D00-0341-4F22-AB33-0E7C8FE1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DF7E-36AE-4972-961E-0031B0D2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1978-752C-4D39-A513-CCB14AF3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B5D1-9292-46EB-B1F5-DAED3F90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E34E-4A57-4E33-B7ED-9343E7E3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EFA21-41F6-4AD8-80E1-0F602A5F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2EE4-C67B-409D-ACBF-08810998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0A1D-4810-4446-924D-835B557E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D34A-8853-49E1-9835-28ACA838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31DA-DCB0-45A5-AF46-81EA6A7F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B068-9414-4C0C-ABDB-34FC3B4C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568B-02DA-4C94-8709-2BB8F974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60E2-04B7-4B63-98F9-804FAE9D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81768-83DF-4244-B3E6-CD5BE3C7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F858-6724-41DE-A153-71235C4C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ACBE-7130-4456-9A60-ABF789D3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8B8B-46FB-42C8-83D2-EDB17E7D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BC2F-304D-42C0-B868-759F5B06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6891-F438-4623-9BB6-579C8B2458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6923-82FA-4A4A-ABC6-C740EAA621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53BE-6305-465C-B207-31EB1035BF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F5A7-2E5E-4966-8F7C-56D3BF6372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eader Election</a:t>
            </a:r>
            <a:br>
              <a:rPr sz="50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3, 4.1, 15.1, 15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en-Liang Fo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F06E-8570-44DB-887E-5B48325DA53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C00AE00-2F35-4345-BC15-5094781509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Complexit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mplex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38080" y="3048120"/>
          <a:ext cx="7238880" cy="1849320"/>
        </p:xfrm>
        <a:graphic>
          <a:graphicData uri="http://schemas.openxmlformats.org/drawingml/2006/table">
            <a:tbl>
              <a:tblPr/>
              <a:tblGrid>
                <a:gridCol w="2276280"/>
                <a:gridCol w="1658880"/>
                <a:gridCol w="33037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Hal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29A5-0A45-4D53-8072-289CD6ABB7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B5C1B5-E4A0-4EFC-B2FA-F15988BDC9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Hirshberg and Sincl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munication complexity, O(n)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15000" y="38736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05720" y="4483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24840" y="5549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05520" y="5549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00600" y="448308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72200" y="4102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529040" y="494028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462360" y="5778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5929200" y="49399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081840" y="4177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45680" y="450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42240" y="555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39240" y="555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7960" y="450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9B55E-D88C-4E30-BCA3-ED7D20D674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AAD97D-7F35-452F-BBE7-5CC7264288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phases 0, 1, 2,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ph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nd UID in both directions for a distance of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of received UID same as L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s UID comes back, continue to next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receives its outbound UID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00800" y="7491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91520" y="1359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10640" y="2425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91320" y="2425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86400" y="1359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58000" y="9777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214840" y="1816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148160" y="265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6615000" y="18158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767640" y="1053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17000" y="76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31480" y="138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28040" y="243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25040" y="243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13760" y="137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838080"/>
            <a:ext cx="83808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288"/>
                </a:moveTo>
                <a:cubicBezTo>
                  <a:pt x="476" y="192"/>
                  <a:pt x="424" y="96"/>
                  <a:pt x="336" y="48"/>
                </a:cubicBezTo>
                <a:cubicBezTo>
                  <a:pt x="248" y="0"/>
                  <a:pt x="124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1880" y="1676520"/>
            <a:ext cx="355680" cy="914400"/>
          </a:xfrm>
          <a:custGeom>
            <a:avLst/>
            <a:gdLst/>
            <a:ahLst/>
            <a:rect l="l" t="t" r="r" b="b"/>
            <a:pathLst>
              <a:path w="224" h="576">
                <a:moveTo>
                  <a:pt x="192" y="0"/>
                </a:moveTo>
                <a:cubicBezTo>
                  <a:pt x="208" y="144"/>
                  <a:pt x="224" y="288"/>
                  <a:pt x="192" y="384"/>
                </a:cubicBezTo>
                <a:cubicBezTo>
                  <a:pt x="160" y="480"/>
                  <a:pt x="80" y="528"/>
                  <a:pt x="0" y="5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431640"/>
            <a:ext cx="2286000" cy="1016280"/>
          </a:xfrm>
          <a:custGeom>
            <a:avLst/>
            <a:gdLst/>
            <a:ahLst/>
            <a:rect l="l" t="t" r="r" b="b"/>
            <a:pathLst>
              <a:path w="1440" h="640">
                <a:moveTo>
                  <a:pt x="1440" y="640"/>
                </a:moveTo>
                <a:cubicBezTo>
                  <a:pt x="1424" y="448"/>
                  <a:pt x="1408" y="256"/>
                  <a:pt x="1248" y="160"/>
                </a:cubicBezTo>
                <a:cubicBezTo>
                  <a:pt x="1088" y="64"/>
                  <a:pt x="688" y="0"/>
                  <a:pt x="480" y="64"/>
                </a:cubicBezTo>
                <a:cubicBezTo>
                  <a:pt x="272" y="128"/>
                  <a:pt x="136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1600200"/>
            <a:ext cx="1981440" cy="1574640"/>
          </a:xfrm>
          <a:custGeom>
            <a:avLst/>
            <a:gdLst/>
            <a:ahLst/>
            <a:rect l="l" t="t" r="r" b="b"/>
            <a:pathLst>
              <a:path w="1248" h="992">
                <a:moveTo>
                  <a:pt x="1104" y="0"/>
                </a:moveTo>
                <a:cubicBezTo>
                  <a:pt x="1176" y="232"/>
                  <a:pt x="1248" y="464"/>
                  <a:pt x="1152" y="624"/>
                </a:cubicBezTo>
                <a:cubicBezTo>
                  <a:pt x="1056" y="784"/>
                  <a:pt x="720" y="928"/>
                  <a:pt x="528" y="960"/>
                </a:cubicBezTo>
                <a:cubicBezTo>
                  <a:pt x="336" y="992"/>
                  <a:pt x="168" y="904"/>
                  <a:pt x="0" y="81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1828800"/>
            <a:ext cx="266760" cy="685800"/>
          </a:xfrm>
          <a:custGeom>
            <a:avLst/>
            <a:gdLst/>
            <a:ahLst/>
            <a:rect l="l" t="t" r="r" b="b"/>
            <a:pathLst>
              <a:path w="168" h="432">
                <a:moveTo>
                  <a:pt x="0" y="432"/>
                </a:moveTo>
                <a:cubicBezTo>
                  <a:pt x="60" y="372"/>
                  <a:pt x="120" y="312"/>
                  <a:pt x="144" y="240"/>
                </a:cubicBezTo>
                <a:cubicBezTo>
                  <a:pt x="168" y="168"/>
                  <a:pt x="156" y="84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914400"/>
            <a:ext cx="533160" cy="38088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0"/>
                </a:moveTo>
                <a:cubicBezTo>
                  <a:pt x="92" y="28"/>
                  <a:pt x="184" y="56"/>
                  <a:pt x="240" y="96"/>
                </a:cubicBezTo>
                <a:cubicBezTo>
                  <a:pt x="296" y="136"/>
                  <a:pt x="316" y="188"/>
                  <a:pt x="336" y="24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173C-4A19-455C-B3B0-57CC65A37B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E9BE24-64F6-4C68-8196-78E2D34EBD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-base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S and HS are comparison-based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compare 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lower-bound i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3.6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lower bound in gene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3FB09-A334-4E65-BBEF-75C0CCCF73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CBE21F-2032-4EF7-9F1E-1A2BF34C5C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mparison-based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munication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nown to al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irection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5E57B-D38F-4650-A9E5-58F93683D7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6D6658-9DFE-4515-9104-6E7D5D0621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phases 1, 2, 3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nds, round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, …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node with UI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ists, it is circulated around the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reach round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 and the node with UID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not received any UID before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with minimum UID becomes the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29400" y="12063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520120" y="1816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9240" y="28828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19920" y="28828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15000" y="18162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86600" y="14349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443440" y="2273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376760" y="311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843600" y="22730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96240" y="15109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4560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560080" y="183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5664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5364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42360" y="183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4BD92-501B-42A4-B8C7-94E7BB2C2D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897C20-A393-4617-B242-13C38EF733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found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essages are sent except between round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 ·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1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ssages are 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mplexity is n ·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oun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4595-75DB-4648-B6C0-5A8A232EF9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89C91B-E83E-42D7-A185-2A124710C0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peed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non-comparison-base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knowledg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ends its UI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ID travels one hop ever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keeps track of lowest UID seen and discards anything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 returns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DCDF7-125D-4692-B2E5-034F7895CE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4923FA-C6CB-4C63-B237-13C4958D73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Speeds Algorithm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:  2 ·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: O(n ·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ageous unbounded tim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gorithm serves as a counterexampl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that impossibility result cannot be 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D6A0-620A-4AEC-9657-2A8F09F6FB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105F8C-7520-4569-B2B0-A9EA808C4B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Comparison-based algo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chieve message costs of less than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but at the cost of unbounded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bounded time complexity, the message lower bound for non-comparison-based algorithms is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3.7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3FCA-1C52-4425-95CE-48E5C3892E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4F20DC-4E89-4F9A-8F71-B567549D87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rocesses are connected in a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rocess eventually declares itself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en ring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communication (e.g., lighthouse rou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8195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86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16765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124080" y="1828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1444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26708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981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4120" y="2133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9112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35268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62720" y="1523520"/>
            <a:ext cx="914400" cy="228600"/>
          </a:xfrm>
          <a:prstGeom prst="line">
            <a:avLst/>
          </a:prstGeom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63800" y="1332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40480" y="2017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409720" y="2209680"/>
            <a:ext cx="1143000" cy="15264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68015-1970-4B97-AEF5-5CA82ED8E8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F04D62-6374-4FC6-89D1-1517FA2F0D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2: General Synch.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each with 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connected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81480" y="28195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286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16765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48120" y="1828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26708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276720" y="1981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19112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35268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4495320" y="19807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4976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515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56640" y="16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6760" y="2803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37320" y="33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3256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E2D86-517C-43E7-BFED-16DA78258D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99A0FF-CE5A-4D09-ABEC-9E6AE44066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on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eaders may have to declare themselves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D0DE-97DD-4501-85FA-121F7AD9F20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7A8402-B359-4DD1-A359-BE39BE9C16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remembers the largest UID it has s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round, propagate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ll outgoing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unds, i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wn UID, declare self as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6C1C-CC39-46FA-A68E-42557D9C2FD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155151-C453-4483-9859-0B47B96C26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Max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a generalization of L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complexity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· 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is the number of outgoing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works if only the upper-bound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372C-9504-4924-9A7C-ED629F7D32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0A9754-F4EA-43FB-A245-68B53162E5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odMax Algorithm Proof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af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unds,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reached all nodes within diame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node with the maximum 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that 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l nodes will have received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13600" y="4191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80280" y="54100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17960" y="48769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85000" y="5943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03960" y="4267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146560" y="4419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365880" y="5638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99200" y="52578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75160" y="457200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708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289560" y="4648320"/>
            <a:ext cx="152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088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94280" y="5715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4656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451480" y="6019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6594120" y="4572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4856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5032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55080" y="426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15560" y="539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36120" y="5965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31000" y="5710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CA99-0B87-4825-8391-254E97C112E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0408D0-0D5D-494E-82A1-CA2AFCF141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vial optimization of Flood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broadcast the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changed in the current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ness is obvious, but the proof is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0A736-6D41-419A-872E-045D410100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A1FAA0-9719-407D-B847-4F51590DAF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Algorithm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of meth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ly relate OptFloodMax to Flood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ag to each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broadcast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,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-nbr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82A3-E7AE-4792-A523-13BDD0C8BD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2BED92-32F1-4322-B873-8CEEB3DC2E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Proof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lete the proof, relate the states of OptFloodMax to Flood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both are started simultaneously, after rou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tates of the two algorithm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Lynch 4.1 for proof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F7AA5-0B8F-419B-89A9-C2BEFB0815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540FC5-FCB4-480F-BEF9-A800DD375F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es connected via reliable FIFO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distinguished by 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do not operate in lock-step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/O Automata to model processes and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i="1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e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808C-DDFD-489B-AF2E-FFE97B70FF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821988-1114-4035-B389-A0C238289F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3: Asynchronous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arranged in a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bidirectional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wise neighbor can be distinguished from counterclockwise neigh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453440" y="18921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443800" y="2502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62920" y="3568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0" y="356868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39040" y="2502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910640" y="212076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8367480" y="2959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300440" y="379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6767280" y="29588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919920" y="2196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964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83760" y="252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80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77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66400" y="252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D55D-D902-410D-BCDB-4F182D75D5D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0FDDC4-1289-4C15-BC88-55A34F797E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ssibility Result for Identical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olve leader election problem with ident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the sequence of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rocess will declare self as leader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Assume identical processes distinguished by a unique identifier (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D is a positive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AAD97-BE70-4832-8AB5-19B547C0AB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D29885-0CAC-4186-8E51-190ADAC8CC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LC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synchronous LCR algorithm ex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buffer of each process must be able to hold up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lgorithm is intuitively correct, but the proof is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know where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relate location o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6455-3501-4D36-9925-EFF0FCF6E04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1D6F35-8C27-43B6-85CA-2232A80B52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LCR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for 0 ≤ r ≤ n-1, eventually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s in the buffer sen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34000">
                <a:solidFill>
                  <a:srgbClr val="000000"/>
                </a:solidFill>
                <a:latin typeface="Arial"/>
              </a:rPr>
              <a:t>max+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eventually appear on channel connecting to the inpu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E1C6-05A9-48C2-B1B7-735CF39DC5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1CB80A-5829-4EA2-98B5-264B948F4A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H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nchronous HS algorithm can also be trivially modified to work in asynchronous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make sure all channels can handle message pile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E7BB-899C-4FCB-8A9F-A187D18AF0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679FD2-6F16-4714-917D-74A2DC184C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on asynchronously determined ph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s an arbitrary process as the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1F4F-30ED-4348-959B-F2902AEAB1C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FC9D7D-07EF-4C9D-8B30-9B5ED4844B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b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rst phase, all nodes send their UID two hops clock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ID of immediate counter-clockwise neighbor is highest of the three, adopt it as its new UID and remain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enter relay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phases, active node sends their new UID to their two clock-wise active neighbors and 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active node sees that its immediate counterclockwise active neighbor has the same UID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4B548-E2EC-41F0-8AE9-73F528F1990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64B591-EB02-49E9-B775-59C20B3B08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20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32004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1168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810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1168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32004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2096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0004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621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40004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17144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06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3200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23623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3200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8604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481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68604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45744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43040" y="289548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29400" y="3200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29400" y="2362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38680" y="3200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4836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104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04836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8197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53080" y="29718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1523880"/>
            <a:ext cx="1447920" cy="762120"/>
          </a:xfrm>
          <a:prstGeom prst="cloudCallout">
            <a:avLst>
              <a:gd name="adj1" fmla="val -51754"/>
              <a:gd name="adj2" fmla="val 837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61920" y="42670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925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52640" y="51055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8324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5264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832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1920" y="51055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925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3716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1430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14600" y="480060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7196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0220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62320" y="51055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929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62320" y="42670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7196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5812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05320" y="42670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9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9604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96040" y="42670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05320" y="5105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7150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4864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1044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0116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01160" y="42670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1044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0120" y="4419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818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7619760" y="5257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3915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315200" y="3276720"/>
            <a:ext cx="1447920" cy="761760"/>
          </a:xfrm>
          <a:prstGeom prst="cloudCallout">
            <a:avLst>
              <a:gd name="adj1" fmla="val -42106"/>
              <a:gd name="adj2" fmla="val 10104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48320" y="48006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48006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3777-F606-4CCC-9F24-1C47A37FCEE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F2931E-4F7E-4BFD-98CF-CDFDD0B22A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Time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phase, the number of active processes is decreased by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h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ases complete in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pperbound on time to proces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pperbound on output queue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the time cost i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CA7BD-19B8-459B-971E-F52435D4D09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929178-20B3-4E74-81B7-D3367E2A00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terson Algorithm Message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t m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each phase, each process sends at most two messages (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cost =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log 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40680-2BA2-4B35-AD15-6AB18DE3245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EBCEFB-B07F-4D80-94A6-C483A475F9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 Lowe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lower bound of asynchronous comparison-based algorithms is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rings is a restriction on asynchronous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15.1.4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B4212-7A17-4214-A5BA-C755E69968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C3278D-3353-401D-927C-7EBD2C25ED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4: Asynchronous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connected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cal processes except 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51680" y="1905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11836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56400" y="25909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23080" y="3657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42400" y="19810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985000" y="2133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203960" y="3352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37280" y="29718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213600" y="228600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088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128000" y="236232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34696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32360" y="3429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9850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289560" y="3733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7432200" y="2286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8664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884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093520" y="197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3640" y="310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74200" y="367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69440" y="342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6FA07-A4C0-422F-9D1C-40AD124337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91AD78-CF39-491E-A39C-4D23D7E6EB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ous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cessing done in lock-ste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un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-passing is done between 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AAE84-E715-4A20-A6A5-0D12F2DDEE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63CD2A-1D5E-4918-A659-CB8E855C97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Flood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re are no rounds, FloodMax cannot be trivially extended to asynch.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 round number to each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de collects all incoming round messages before process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F9B4-CD05-4FE2-B102-7A623785FA1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509404-E46B-4D2B-9316-65800628F6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other  general asynch. network protocols that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, Convergecast, and 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ers to simulate synchronou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snapshots for termin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773F-5480-4485-86A5-42E04F7F28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598A1A-4B78-4958-B459-46D2536DCE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leader elec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protocols exist for r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for asynchronous networks are mor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EAE3-A13D-4C64-A261-A311EBDC56E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E9B29B-0B7F-4A0E-B9C9-B7FBF9A6FF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: Synchronous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connected in a 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es can distinguish clockwise from counterclockwise neighb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6002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09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2767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2767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2096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828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952520" y="26668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8858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352680" y="26668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505320" y="1905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54680" y="16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69160" y="22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65720" y="32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62720" y="32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51440" y="222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CFD55-7339-412C-82C8-C4A6072191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99662E-722A-4E9A-A486-5FC95BE49E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on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eaders may have to declare themselves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 may be unidirectional or b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ode may or may not kn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size of the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8BA7-DDF7-4F43-A754-87B54F1205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09348A-8311-4DBC-98E1-9241508466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by Le Lann, Cha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oberts  (19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nidirectional r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leader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 passes its UI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ption, compare to own 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arger: Pass to nex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maller: Dis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qual: Declare self a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3360" y="816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44080" y="1425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62840" y="24922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43880" y="24922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38960" y="1425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10560" y="10447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67400" y="18828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200720" y="2720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667200" y="18824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19840" y="11203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69560" y="82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404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0600" y="249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77600" y="249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66320" y="144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C47A-FDBA-484B-AE34-0ABD826890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2A6B12-EB41-4578-B058-D6D91273A9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Algorithm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of 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s, the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way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be sen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= n, UI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travele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33920" y="1587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24640" y="2197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43400" y="32637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24440" y="3263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19520" y="2197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91120" y="1816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547960" y="265428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481280" y="3492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3947760" y="26539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00400" y="1891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501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64600" y="22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1160" y="32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8160" y="32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46880" y="221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1676520"/>
            <a:ext cx="660240" cy="1523880"/>
          </a:xfrm>
          <a:custGeom>
            <a:avLst/>
            <a:gdLst/>
            <a:ahLst/>
            <a:rect l="l" t="t" r="r" b="b"/>
            <a:pathLst>
              <a:path w="416" h="960">
                <a:moveTo>
                  <a:pt x="0" y="0"/>
                </a:moveTo>
                <a:cubicBezTo>
                  <a:pt x="176" y="112"/>
                  <a:pt x="352" y="224"/>
                  <a:pt x="384" y="384"/>
                </a:cubicBezTo>
                <a:cubicBezTo>
                  <a:pt x="416" y="544"/>
                  <a:pt x="304" y="752"/>
                  <a:pt x="192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8560" y="2133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35520" y="3352680"/>
            <a:ext cx="82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4290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DFCCF-7FE0-4DF0-80FB-36FCBEDBE4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07694D-42C3-4EB9-BA6F-170BFC66D9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ting L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R algorithm never ha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leaders continuously listen for incoming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leader pass a report message around th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general way to transform a non-halting algorithm into a halting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 C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E5F97-5D00-494B-B8C1-D4B29535A1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7564CD-F34D-494C-9125-6B47205906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3:25:07Z</dcterms:created>
  <dc:creator>liang</dc:creator>
  <dc:description/>
  <dc:language>en-US</dc:language>
  <cp:lastModifiedBy>ochipara</cp:lastModifiedBy>
  <dcterms:modified xsi:type="dcterms:W3CDTF">2003-09-05T14:06:09Z</dcterms:modified>
  <cp:revision>145</cp:revision>
  <dc:subject/>
  <dc:title>Leader Election</dc:title>
</cp:coreProperties>
</file>